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6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E193-86C9-42EE-A133-E67688AD5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102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6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5C16-235C-4A18-8601-3936ED7E7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78C-754B-4D76-9064-251AD826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5F1-7813-49D4-B3EE-5BB3E46C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AF2377-39F4-4D33-83F1-17876233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F6B9E-A1C6-4CCB-B190-EFB05A96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09CBE8-1BCF-41A1-BE02-82FB8563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D8673B-C4C9-43FE-90C4-98DCDC77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FE418-0799-470C-A907-8E4523D1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3BBB0-55F1-483A-A623-3E60FD11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7E4E5-C0A1-4DDF-ADEF-11539DD5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3E248-EBBE-4D4C-A759-F4FFF139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C561C-BB59-491A-A12A-3F22AA24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2E2AC-F7A5-463B-A4F8-3D9F9276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D73-A5FD-490A-8AEA-F8EA97E7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13DC5-E1A1-478A-94E5-B536A290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F9F2B-76A5-4A05-BB29-BEB214DE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B798B-DB39-4CE5-8002-AB08E4FC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E291F-2290-4127-B0B3-6F55E414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C768EB-9E66-4543-8B27-826269BD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316149-1EA1-44EC-9CE8-30EA9835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B6D23-D6C7-4ECE-A320-0CBEF1CF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5D66F-7827-4823-AA58-AAF05AD5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CC9573-BDD7-475F-80D8-03093D6D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84113-DC5C-4AC4-9824-AABD3F1C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88C-C9F9-4290-82B0-8D7CC75F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E584D-BEAA-42FB-8072-7AA7726B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7266C-15DE-47DD-AAF2-7E1E0DBA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0FB8C-CE3A-4F5E-9692-FE89A558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BEA03-81D6-463B-81E9-B7DD9AC8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7CE64-9FB8-40E2-A7ED-E47A2066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B2295-7897-479D-9B56-01BC4FC2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32EB1-A2CE-4CB7-852D-707923F8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D7B1A-7056-4DF4-9DF2-C269636E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A6791-D879-4A1B-8778-95E57306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AEC41-C92B-4DF0-89A2-17101DA5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780A-0BE1-489F-BA09-A9523B4E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095C3-B824-4602-8F7F-FA767999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829B2-21C3-4AA5-8E61-C47ED06B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0CB51-C036-4F39-94C5-F4B8D212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45489-075A-44B1-8931-2458A642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29AF31-3621-453A-9CE7-9AB13CE6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40F67-0610-4D19-A5C4-A729FFC8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6AEF7B-CE4B-47D2-82BD-E39E6706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57164F-C1EA-40C3-BB4F-36FA2235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7552B-7B15-4680-B348-CB008FC5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031F4-44DA-48A5-BCCE-AE8B78A9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5468-22E0-4251-A86E-190BCE75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29DA7D-FBF6-410A-9154-70982C75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979269-B636-451D-9899-31ABA638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2A2498-46D5-4290-8696-B7785A68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75062-DD6E-40E4-AF58-B1A88C21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D178B5-CD12-4A13-A491-414E7CE8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C7B6-FD78-4A61-AD3A-BA256207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A3CE-8649-4138-AD84-7EA76435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6881-C2B3-4258-B33E-5B2325E3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230F-EB13-4CFB-A93F-B21FB64F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C142-A718-431B-A291-BF4469FF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4C93-D5F1-4311-B1A1-F0D6FBF0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C25E-ADE5-4B2D-9E57-8E0105AF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D0EB-3E41-4CA3-9651-010ECE37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B177-D901-456C-8375-360ABC7B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124C-8529-4AD7-8B96-D8C4B93B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A0AD-6B59-4E8E-B82D-63AEB7B4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7BB0-8364-4D1D-948A-6E08A5BD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D0D94-72C5-4C6D-8536-5DEF2BC1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8B4D4-3EEA-4D1A-8968-4EEC2F08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D1830-A38D-47B3-BC2E-5EB5F4B7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3F591-6CDF-41BD-8328-37000A1A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513-C62D-436F-BB30-2C2EBB7D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7C75A-3929-4E65-A653-AC0EDE52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3FCBE-5778-4FBE-82D1-5208DCE3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7DA42-3C28-48E8-8BB6-C717311C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C692C-34B1-4C46-BD73-BDCDE8D3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25555-CCA9-45A1-A81D-05774A1B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1177B-D507-4424-BCE9-83FC1AFE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934EC-6F5D-4F7D-8F3F-11D92DFE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809B7-9504-4ECD-AB2B-3B0A5819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282BA-E907-415C-98F7-D1893B4F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B7603-BB18-4087-88EB-53ABC162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121A-4CDA-4B65-92EE-1748BB33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56D3D-305B-495F-91F0-839B6149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FC6E0-CEB2-490B-A054-05E4D272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2548F-F5DD-4ABF-8E0C-F856652C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4668C-B5BF-4AF7-A852-8180F301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0D41E-A6F5-47BF-8571-D3B47070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1C1EF-6BCF-43B5-8E1A-67770174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BDF06-0AE8-46D6-9D73-3BD22108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CD92C-F844-4372-8EB1-F3068C2B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13BD1-58D7-4DA0-9EA5-A4C44B19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CFB5D-61D1-4D48-97D1-82556EED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62EF-D3F5-4CE7-A012-22368DE9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16D71-5F3E-4B58-85EC-04F33FC8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5C970-B8D9-4EEC-ADCC-4139A519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07A62-204B-4F42-8090-614041C8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A82A8-5944-489B-925C-97BA9ADF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822E1-78F8-4D5D-8381-75CD6003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092F0-78CE-4368-8A37-5E7E3298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1808A-7A46-45DB-866F-13E217B9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45EAE-E761-4289-B905-D3C6A86F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08F52-00E7-4601-89B3-B8262FB0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8AA25-A36E-4B09-8D3D-0DA49362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0A1-2791-4834-87F1-8680429E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F781A-5356-4103-A5ED-2EFAD530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CCD47-0BCC-4139-8D9D-CF322DD0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56E55-DC7A-4E1F-9591-CBA57630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37F58-2F18-4B8E-B940-BFFE75CE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CE371-B4B6-4B61-A9A0-E79F5DB0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A0C03-2EFC-41FF-8CA1-E0AC7107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1F825-2A04-4BD2-B9FA-2391E594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429C3-D9F7-4B69-BC3D-39D63127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A2490-2BAB-44ED-9C8A-7FD3FEFE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27677-B80F-43F3-9C3C-A8D5B042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202E-50E4-413B-859E-805B4A56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B0EC7-AB62-49CE-A163-241C8CC9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F93BB-F8A6-45C2-A8F1-8A617604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A8666-8071-4C8F-86A6-7A93F1BD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5931F-DF15-4694-97FE-AEE69F19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A879A-C51B-4635-8395-13AB633E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20B00-75DE-4B63-B6B0-EFB0EAB3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07073-19AB-49F7-B063-590CA03B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5D834-3214-41B5-BE8B-CBCD784A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99537-6F71-4467-AE8C-8D81FA3D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4F608-4E28-44AD-A012-306DBF71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5E7-116A-4012-8640-378BE814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2AA4D-34E3-4F2B-ABE4-679688B2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0A925-7ACD-4FC8-A051-C7262E07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324E2-797E-41CA-A1D5-A56837A5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47EC5-8A7A-4CCA-A580-B16AC10E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FD939-6E34-47A6-9E62-42016F65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C9BD2-250E-491D-85CE-3D3BC9C4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D93AB-6D40-496A-94D5-196A6897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9C5E7-7D4A-47ED-92F6-F9381FA2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9BD9A-4083-4290-BE1C-E6BD3437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35705-8536-4232-A5E7-A1084692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50EB-1197-46CC-A2BF-95FDCB9E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2C083-5F0C-4FFE-8524-5C8A9EE6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EC971-F616-49B9-A107-74B50D09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262A1-7CE8-4A63-BDCD-B35D3320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55D5E-64AA-4C5D-A6FC-AE1A6B76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7A536-89AF-4771-874D-9AE28C23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D4F99-033E-4324-BB2A-248C2D98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39492-E991-4820-AEA1-B23A41A6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744D76-1F20-439C-A0D5-48C38E2B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BB488-AE89-4DBB-B3EA-C98035F1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507EC-5F40-4385-BD33-45E5C1A2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ECA5-D3E2-4E50-86CF-5278A884E8F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43A8-511C-4579-8EB9-5433CD947E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B550-6F2E-40C5-88FF-1D99ACB481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CFA6-27AF-4F3C-9926-288BED65995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13A6-1F3B-4CF0-99F8-45F466B9640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96A4-556B-4AAC-88EA-F445964C25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5A30-9D39-4971-8E1D-913254F621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FF4C-49AD-4745-8C1E-CD55E96BB99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41FA-F97A-40FE-9403-7F6A20FE625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2922-CF7C-4CB2-AF6C-654E95C374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F802-9776-4FC5-B334-737F145D1B1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E8C5-7CF3-48DA-A341-19DF01A7EB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858D-BF7E-4A93-9FB3-AEEDB0679D8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A2DF-1CB1-47A7-914A-816B8CECE2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0C03-86D6-4023-96DD-8EC6C7155D5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974B-47AA-4EFD-BDCA-A8BA17EE6C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3861-24CE-4B72-8AA2-F35FED2648F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4953-DF6B-49D5-B580-2F8ED904F5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4E6E-1B4F-41BB-9872-4CCE10105CC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7E4A-10C4-4D48-AB6C-20B43D54CF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7223-09AC-4537-82AA-66DA7282B74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3364-8E1B-4929-9DC8-4415426541E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4462-C363-4054-9BAD-B56CCC5726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E201-AE91-4627-8342-28199BA6697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46b86"/>
                </a:solidFill>
                <a:latin typeface="Georgia"/>
              </a:rPr>
              <a:t>HOW BUSINESSES USE CASH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ASH CONTROL SYSTEM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POSITING CAS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Picture 3" descr="D:\C21 PowerPoint\Multi_Journal\art for blue\Ch06\Ch06-01a.jpg"/>
          <p:cNvPicPr/>
          <p:nvPr/>
        </p:nvPicPr>
        <p:blipFill>
          <a:blip r:embed="rId1"/>
          <a:srcRect l="0" t="0" r="0" b="19929"/>
          <a:stretch/>
        </p:blipFill>
        <p:spPr>
          <a:xfrm>
            <a:off x="457200" y="1752480"/>
            <a:ext cx="8226360" cy="3935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617" name="Text Box 4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1, page 1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POSIT RECORDED ON A CHECK STUB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Picture 3" descr="D:\C21 PowerPoint\Multi_Journal\art for blue\Ch06\Ch06-01b.jpg"/>
          <p:cNvPicPr/>
          <p:nvPr/>
        </p:nvPicPr>
        <p:blipFill>
          <a:blip r:embed="rId1"/>
          <a:srcRect l="0" t="0" r="16865" b="20629"/>
          <a:stretch/>
        </p:blipFill>
        <p:spPr>
          <a:xfrm>
            <a:off x="228600" y="1828800"/>
            <a:ext cx="3732120" cy="38098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620" name="Text Box 4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1, page 1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5"/>
          <p:cNvSpPr/>
          <p:nvPr/>
        </p:nvSpPr>
        <p:spPr>
          <a:xfrm>
            <a:off x="4114800" y="1776240"/>
            <a:ext cx="4800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Balance Brought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Deposited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ub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No need to Journalize Deposit Sl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h Receipts have already been reco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231040" cy="68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NDORSEMEN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3" name="Picture 3" descr="D:\C21 PowerPoint\Multi_Journal\art for blue\Ch06\Ch06-01c.jpg"/>
          <p:cNvPicPr/>
          <p:nvPr/>
        </p:nvPicPr>
        <p:blipFill>
          <a:blip r:embed="rId1"/>
          <a:srcRect l="0" t="0" r="11881" b="39472"/>
          <a:stretch/>
        </p:blipFill>
        <p:spPr>
          <a:xfrm>
            <a:off x="2516040" y="1143000"/>
            <a:ext cx="3427560" cy="1573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624" name="Picture 4" descr="D:\C21 PowerPoint\Multi_Journal\art for blue\Ch06\Ch06-01d.jpg"/>
          <p:cNvPicPr/>
          <p:nvPr/>
        </p:nvPicPr>
        <p:blipFill>
          <a:blip r:embed="rId2"/>
          <a:srcRect l="0" t="0" r="13504" b="65612"/>
          <a:stretch/>
        </p:blipFill>
        <p:spPr>
          <a:xfrm>
            <a:off x="3583080" y="2749680"/>
            <a:ext cx="3427200" cy="18478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625" name="Picture 5" descr="D:\C21 PowerPoint\Multi_Journal\art for blue\Ch06\Ch06-01e.jpg"/>
          <p:cNvPicPr/>
          <p:nvPr/>
        </p:nvPicPr>
        <p:blipFill>
          <a:blip r:embed="rId3"/>
          <a:srcRect l="0" t="0" r="0" b="50287"/>
          <a:stretch/>
        </p:blipFill>
        <p:spPr>
          <a:xfrm>
            <a:off x="4649760" y="4637160"/>
            <a:ext cx="3427560" cy="1535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626" name="Text Box 6"/>
          <p:cNvSpPr/>
          <p:nvPr/>
        </p:nvSpPr>
        <p:spPr>
          <a:xfrm>
            <a:off x="380880" y="15588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nk Endor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2514600" y="50641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rictive Endor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1447920" y="331956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 Endor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1, page 1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32"/>
          <p:cNvSpPr/>
          <p:nvPr/>
        </p:nvSpPr>
        <p:spPr>
          <a:xfrm>
            <a:off x="4114800" y="35053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b400"/>
                </a:solidFill>
                <a:latin typeface="Arial"/>
              </a:rPr>
              <a:t>Preparing che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6"/>
          <p:cNvSpPr/>
          <p:nvPr/>
        </p:nvSpPr>
        <p:spPr>
          <a:xfrm>
            <a:off x="4114800" y="38448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24"/>
          <p:cNvSpPr/>
          <p:nvPr/>
        </p:nvSpPr>
        <p:spPr>
          <a:xfrm>
            <a:off x="196920" y="3524400"/>
            <a:ext cx="38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b400"/>
                </a:solidFill>
                <a:latin typeface="Arial"/>
              </a:rPr>
              <a:t>Preparing check stu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MPLETED CHECK STUB AND CHEC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Picture 3" descr="D:\C21 PowerPoint\Multi_Journal\art for blue\Ch06\Ch06-01f.jpg"/>
          <p:cNvPicPr/>
          <p:nvPr/>
        </p:nvPicPr>
        <p:blipFill>
          <a:blip r:embed="rId1"/>
          <a:srcRect l="0" t="0" r="0" b="24336"/>
          <a:stretch/>
        </p:blipFill>
        <p:spPr>
          <a:xfrm>
            <a:off x="457200" y="914400"/>
            <a:ext cx="8229600" cy="2617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635" name="Text Box 4"/>
          <p:cNvSpPr/>
          <p:nvPr/>
        </p:nvSpPr>
        <p:spPr>
          <a:xfrm>
            <a:off x="196920" y="3862440"/>
            <a:ext cx="38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amount of the che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6"/>
          <p:cNvSpPr/>
          <p:nvPr/>
        </p:nvSpPr>
        <p:spPr>
          <a:xfrm>
            <a:off x="117360" y="2895480"/>
            <a:ext cx="38124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8"/>
          <p:cNvSpPr/>
          <p:nvPr/>
        </p:nvSpPr>
        <p:spPr>
          <a:xfrm>
            <a:off x="2171880" y="12193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Oval 9"/>
          <p:cNvSpPr/>
          <p:nvPr/>
        </p:nvSpPr>
        <p:spPr>
          <a:xfrm>
            <a:off x="117360" y="144792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10"/>
          <p:cNvSpPr/>
          <p:nvPr/>
        </p:nvSpPr>
        <p:spPr>
          <a:xfrm>
            <a:off x="117360" y="914400"/>
            <a:ext cx="38124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12"/>
          <p:cNvSpPr/>
          <p:nvPr/>
        </p:nvSpPr>
        <p:spPr>
          <a:xfrm>
            <a:off x="8458200" y="16765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13"/>
          <p:cNvSpPr/>
          <p:nvPr/>
        </p:nvSpPr>
        <p:spPr>
          <a:xfrm>
            <a:off x="6172200" y="16765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14"/>
          <p:cNvSpPr/>
          <p:nvPr/>
        </p:nvSpPr>
        <p:spPr>
          <a:xfrm>
            <a:off x="8458200" y="213372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15"/>
          <p:cNvSpPr/>
          <p:nvPr/>
        </p:nvSpPr>
        <p:spPr>
          <a:xfrm>
            <a:off x="4648320" y="2666880"/>
            <a:ext cx="38088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16"/>
          <p:cNvSpPr/>
          <p:nvPr/>
        </p:nvSpPr>
        <p:spPr>
          <a:xfrm>
            <a:off x="7924680" y="2666880"/>
            <a:ext cx="38124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17"/>
          <p:cNvSpPr/>
          <p:nvPr/>
        </p:nvSpPr>
        <p:spPr>
          <a:xfrm>
            <a:off x="2171880" y="6858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18"/>
          <p:cNvSpPr/>
          <p:nvPr/>
        </p:nvSpPr>
        <p:spPr>
          <a:xfrm>
            <a:off x="5943600" y="1143000"/>
            <a:ext cx="380880" cy="38088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19"/>
          <p:cNvSpPr/>
          <p:nvPr/>
        </p:nvSpPr>
        <p:spPr>
          <a:xfrm>
            <a:off x="2819520" y="3352680"/>
            <a:ext cx="380880" cy="38124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20"/>
          <p:cNvSpPr/>
          <p:nvPr/>
        </p:nvSpPr>
        <p:spPr>
          <a:xfrm>
            <a:off x="193680" y="5780160"/>
            <a:ext cx="38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the new account bal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1"/>
          <p:cNvSpPr/>
          <p:nvPr/>
        </p:nvSpPr>
        <p:spPr>
          <a:xfrm>
            <a:off x="196920" y="5462640"/>
            <a:ext cx="38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amount of the che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2"/>
          <p:cNvSpPr/>
          <p:nvPr/>
        </p:nvSpPr>
        <p:spPr>
          <a:xfrm>
            <a:off x="196920" y="5122800"/>
            <a:ext cx="38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 purpose of the che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23"/>
          <p:cNvSpPr/>
          <p:nvPr/>
        </p:nvSpPr>
        <p:spPr>
          <a:xfrm>
            <a:off x="196920" y="4184640"/>
            <a:ext cx="38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date of the che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25"/>
          <p:cNvSpPr/>
          <p:nvPr/>
        </p:nvSpPr>
        <p:spPr>
          <a:xfrm>
            <a:off x="187200" y="4530600"/>
            <a:ext cx="38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o whom the check is to be pai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4114800" y="60372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 the che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8"/>
          <p:cNvSpPr/>
          <p:nvPr/>
        </p:nvSpPr>
        <p:spPr>
          <a:xfrm>
            <a:off x="4114800" y="41623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o whom the check is to be paid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29"/>
          <p:cNvSpPr/>
          <p:nvPr/>
        </p:nvSpPr>
        <p:spPr>
          <a:xfrm>
            <a:off x="4114800" y="4765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amount in fig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30"/>
          <p:cNvSpPr/>
          <p:nvPr/>
        </p:nvSpPr>
        <p:spPr>
          <a:xfrm>
            <a:off x="4110120" y="51055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amount in wor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31"/>
          <p:cNvSpPr/>
          <p:nvPr/>
        </p:nvSpPr>
        <p:spPr>
          <a:xfrm>
            <a:off x="4114800" y="54450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purpose of the che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3"/>
          <p:cNvSpPr/>
          <p:nvPr/>
        </p:nvSpPr>
        <p:spPr>
          <a:xfrm>
            <a:off x="7124400" y="6171480"/>
            <a:ext cx="202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1, page 128-1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17"/>
          <p:cNvGrpSpPr/>
          <p:nvPr/>
        </p:nvGrpSpPr>
        <p:grpSpPr>
          <a:xfrm>
            <a:off x="422280" y="1143000"/>
            <a:ext cx="8229600" cy="1550880"/>
            <a:chOff x="422280" y="1143000"/>
            <a:chExt cx="8229600" cy="1550880"/>
          </a:xfrm>
        </p:grpSpPr>
        <p:pic>
          <p:nvPicPr>
            <p:cNvPr id="660" name="Picture 3" descr="D:\C21 PowerPoint\Multi_Journal\art for blue\Ch06\Ch06-01g.jpg"/>
            <p:cNvPicPr/>
            <p:nvPr/>
          </p:nvPicPr>
          <p:blipFill>
            <a:blip r:embed="rId1"/>
            <a:srcRect l="0" t="0" r="5558" b="39858"/>
            <a:stretch/>
          </p:blipFill>
          <p:spPr>
            <a:xfrm>
              <a:off x="422280" y="1143000"/>
              <a:ext cx="8229600" cy="15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16"/>
            <p:cNvSpPr/>
            <p:nvPr/>
          </p:nvSpPr>
          <p:spPr>
            <a:xfrm>
              <a:off x="3714840" y="210996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CORDING A VOIDED CHEC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533520" y="409104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check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533520" y="33526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Record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533520" y="44546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 a check mark in the Post. Ref.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533520" y="37180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 word VOID in the account ti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0"/>
          <p:cNvSpPr/>
          <p:nvPr/>
        </p:nvSpPr>
        <p:spPr>
          <a:xfrm>
            <a:off x="533520" y="4818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Place a dash in the Cash Credit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11"/>
          <p:cNvSpPr/>
          <p:nvPr/>
        </p:nvSpPr>
        <p:spPr>
          <a:xfrm>
            <a:off x="7731000" y="24382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12"/>
          <p:cNvSpPr/>
          <p:nvPr/>
        </p:nvSpPr>
        <p:spPr>
          <a:xfrm>
            <a:off x="685800" y="24382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13"/>
          <p:cNvSpPr/>
          <p:nvPr/>
        </p:nvSpPr>
        <p:spPr>
          <a:xfrm>
            <a:off x="3276720" y="24382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Oval 14"/>
          <p:cNvSpPr/>
          <p:nvPr/>
        </p:nvSpPr>
        <p:spPr>
          <a:xfrm>
            <a:off x="4114800" y="19810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15"/>
          <p:cNvSpPr/>
          <p:nvPr/>
        </p:nvSpPr>
        <p:spPr>
          <a:xfrm>
            <a:off x="1371600" y="24382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7429320" y="61714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6-1, page 1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20:59:13Z</dcterms:created>
  <dc:creator>Mary Colleen McLaughlin</dc:creator>
  <dc:description/>
  <dc:language>en-US</dc:language>
  <cp:lastModifiedBy>David Combs</cp:lastModifiedBy>
  <cp:lastPrinted>1999-03-30T16:43:05Z</cp:lastPrinted>
  <dcterms:modified xsi:type="dcterms:W3CDTF">2012-10-25T15:42:19Z</dcterms:modified>
  <cp:revision>24</cp:revision>
  <dc:subject/>
  <dc:title>THE ACCOUNTING EQUATION</dc:title>
</cp:coreProperties>
</file>